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10E1-427F-4A5D-B7C9-63949F6A0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9F2D-EA3F-46E0-ACBA-84AE9D4D4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681E-3B63-4DEB-8588-0F5C04372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16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46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92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16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46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E550-B8A8-40B8-AA2C-C00C03B24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69EF3-8B93-478D-B810-39951800DA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D5E77-7843-4579-93FD-EAF25EA6F6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D2D54-DC17-4301-91A9-BFCE075804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B597A-875F-4E14-A02C-525D436B82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EA2BD-CF2B-41E2-8FA4-D4B4D132A4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4000" y="260280"/>
            <a:ext cx="8064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25F6-0857-4EC0-8E59-E93D412E85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8CB91-A048-4061-BAD1-D26BD09B87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0232-A284-45B4-9E9A-6D9E9492A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939D-63CE-41FE-B6F0-0EFD5FE01D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78D89-BD90-415D-8220-EB4BB28C7E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E14E2-DCB2-4833-9D12-F29CC78E70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79A4A-996A-40D8-992D-0371018529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216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46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92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216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46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99396-4F98-47EE-B456-FD12D3FC23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E840-80BC-4272-AC18-E535BF80E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3A41-4021-4411-8DDD-A823A7849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3088-846C-4B9D-9A44-E004B4777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4000" y="260280"/>
            <a:ext cx="8064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7588-C2EA-4928-A455-3643C4DCE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162B-1C35-4E9F-9AEE-DB3AF3D57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A570-045F-40F7-BAFB-12BA7C082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16E1E-EC06-405D-8F1A-3B557A566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47160" y="9751680"/>
            <a:ext cx="381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DEF3-6219-4BB1-8D4D-25B54B0F8766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8458200" y="644040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3D8E-1D57-4F7F-91D8-B0AFDE0C0EF6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1187280" y="3789000"/>
            <a:ext cx="74995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68000" indent="-18000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720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008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86D6-43EC-4CD9-9F0F-6431853C869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2492280"/>
            <a:ext cx="7559640" cy="10749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omputer Graphic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10429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42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장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오픈지엘 기본틀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학습목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논리적 입력장치를 설정하는 이유와 종류를 이해한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세 가지 입력모드의 차이점을 이해한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UT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콜백함수의 종류와 사용법을 이해한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의 화면 좌표계와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UT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의 화면 좌표계 사이의 차이점을 이해한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더블 버퍼링의 필요성에 대해 이해한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정점 배열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디스플레이 리스트의 필요성과 사용법을 이해한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08F9C-81FD-41AD-A4EF-1C17A09FFE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지엘의 콜백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568680" cy="3600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00720" y="3213000"/>
            <a:ext cx="3600360" cy="172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DA8B-8102-4044-BE60-45BD0B1D80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지엘의 콜백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아이들 콜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큐에 이벤트가 없을 때 실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정의되어 있지 않으면 운영체제는 다른 일을 수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드라이버를 통해 주기적으로 이벤트 검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258920" y="2924280"/>
            <a:ext cx="6534000" cy="32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D1CA-4725-4B12-B4EC-ED75C12F2A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윈도우와 뷰포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윈도우를 분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그리기가 뷰포트 내부로 제한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왜곡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뷰포트 미 설정시 기본값으로 윈도우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뷰포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윈도우 크기조절에 따라 뷰포트 내부 그림도 자동으로 크기조절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별도 뷰포트 설정에 의해 왜곡 방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39640" y="3141720"/>
            <a:ext cx="3959280" cy="311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932360" y="4724280"/>
            <a:ext cx="3673440" cy="16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9CB5-D8BE-401C-87DD-990D0630E8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LUT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윈도우 제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238800" cy="382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25E8-D7F7-4FD9-9BE7-F058E3D97A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GL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의 뷰포트 설정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889680" cy="426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64CA-549D-4B0C-86BB-2CD0885ACC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L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의 화면좌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GLUT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화면좌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5400720" cy="374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2AAC6-5706-4F4D-8E38-753BC80EAB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프레임 버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중 포트 구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d Port, Write 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버퍼를 읽어서 화면에 뿌리는 것은 거의 동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버퍼에 기록하는 것은 상대적으로 느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애니메이션에서 문제가 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042920" y="3860640"/>
            <a:ext cx="735984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72F6-0779-4A4A-B884-2536235A6B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더블 버퍼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프런트 버퍼와 백 버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16000" y="2637000"/>
            <a:ext cx="6365880" cy="26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D04F-C111-4FDB-893E-17808BA444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육면체 그리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GLfloat MyVertices[8][3] = {{-0.25, -0.25, 0.25}, {-0.25, 0.25, 0.25}, {0.25, 0.25, 0.25}, {0.25, -0.25, 0.25}, {-0.25, -0.25, -0.25}, {-0.25, 0.25, -0.25}, {0.25, 0.25, -0.25}, {0.25, -0.25, -0.25}}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157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GLfloat MyColors[8][3]={{0.2, 0.2, 0.2}, {1.0, 0.0, 0.0}, {1.0, 1.0, 0.0}, {0.0, 1.0, 0.0}, {0.0, 0.0, 1.0}, {1.0, 0.0, 1.0}, {1.0, 1.0, 1.0}, {0.0, 1.0, 1.0}};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정점 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0, 3, 2,  1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으로 구성된 면 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반시계 방향으로 명시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glBegin(GL_POLYGON);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glColor3fv(MyColors[0]); glVertex3fv(MyVertices[0])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glColor3fv(MyColors[3]); glVertex3fv(MyVertices[3])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glColor3fv(MyColors[2]); glVertex3fv(MyVertices[2])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glColor3fv(MyColors[1]); glVertex3fv(MyVertices[1])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glEnd()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867280" y="4437000"/>
            <a:ext cx="2116080" cy="213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E7B8-AFDF-415A-B80A-FB62F2CE2F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계층구조적 표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473800" cy="422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D5E1-C7E5-4F0C-A609-9F6078A36F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물리적 입력장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마우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조이스틱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트랙볼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스페이스 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상대입력과 절대입력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타블렛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스타일러스 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크로스 헤어 커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디지타이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터치 패널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광학 패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전기 패널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067280" y="1413000"/>
            <a:ext cx="1225440" cy="1038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292720" y="1197000"/>
            <a:ext cx="136692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6372360" y="1197000"/>
            <a:ext cx="1439640" cy="1220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7667640" y="1268280"/>
            <a:ext cx="1224000" cy="1036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3995640" y="2924280"/>
            <a:ext cx="1800360" cy="1450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4067280" y="5013360"/>
            <a:ext cx="1135080" cy="115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0"/>
          <a:stretch/>
        </p:blipFill>
        <p:spPr>
          <a:xfrm>
            <a:off x="5292720" y="5013360"/>
            <a:ext cx="1150920" cy="113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534B-1D5A-475A-AD01-8BC79FA04A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정점 배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GLfloat MyVertices[8][3] = {{-0.25,-0.25,0.25}, {-0.25,0.25,0.25}, {0.25,0.25,0.25}, {0.25,-0.25,0.25}, {-0.25,-0.25,-0.25}, {-0.25,0.25,-0.25}, {0.25,0.25,-0.25}, {0.25,-0.25,-0.25}};         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GLfloat MyColors[8][3]={{0.2,0.2,0.2}, {1.0,0.0,0.0}, {1.0, 1.0, 0.0}, {0.0,1.0,0.0}, {0.0,0.0,1.0}, {1.0,0.0,1.0}, {1.0,1.0,1.0}, {0.0,1.0,1.0}};                                     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3300"/>
                </a:solidFill>
                <a:latin typeface="Verdana"/>
              </a:rPr>
              <a:t>GLubyte MyVertexList[24]={0,3,2,1, 2,3,7,6, 0,4,7,3, 1,2,6,5, 4,5,6,7, 0,1,5,4};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void MyDisplay( ){ 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glEnableClientState(GL_COLOR_ARRAY);                                     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glEnableClientState(GL_VERTEX_ARRAY)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glColorPointer(3, GL_FLOAT, 0, MyColors);                             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glVertexPointer(3, GL_FLOAT, 0, MyVertices);     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for(GLint i = 0; i &lt; 6; i++)                                          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   </a:t>
            </a:r>
            <a:r>
              <a:rPr b="0" lang="ko-KR" sz="1600" spc="-1" strike="noStrike">
                <a:solidFill>
                  <a:srgbClr val="ff3300"/>
                </a:solidFill>
                <a:latin typeface="Verdana"/>
              </a:rPr>
              <a:t> </a:t>
            </a:r>
            <a:r>
              <a:rPr b="0" lang="ko-KR" sz="1600" spc="-1" strike="noStrike">
                <a:solidFill>
                  <a:srgbClr val="ff3300"/>
                </a:solidFill>
                <a:latin typeface="Verdana"/>
              </a:rPr>
              <a:t>glDrawElements(GL_POLYGON, 4, GL_UNSIGNED_BYTE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3300"/>
                </a:solidFill>
                <a:latin typeface="Verdana"/>
              </a:rPr>
              <a:t>                                 </a:t>
            </a:r>
            <a:r>
              <a:rPr b="0" lang="ko-KR" sz="1600" spc="-1" strike="noStrike">
                <a:solidFill>
                  <a:srgbClr val="ff3300"/>
                </a:solidFill>
                <a:latin typeface="Verdana"/>
              </a:rPr>
              <a:t>&amp;MyVertexList[4*i]);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    …                           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}                               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E7A1-6B89-46BA-A43B-7CA85631B2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지엘의 실행모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직접 모드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Immediate Mod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화면 렌더링과 동시에 물체 정보를 모두 파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다시 그리려면 전체 코드를 다시 실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보류모드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Retained Mod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이미 정의된 물체를 컴파일 된 형태로 재사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디스플레이 리스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기본요소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Primitives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상태변수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State Variable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영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Imag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이동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회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조명 작업과 관련된 모든 명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반복적으로 실행되어야 할 요소를 디스플레이 리스트 내부에 포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프로그램 속도 향상에 필수적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2C29-C619-4AFB-B42E-A6390AA227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물리적 입력장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3D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스캐너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 표면의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X, Y, Z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좌표 인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레이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촬상소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CC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버튼 박스와 다이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버튼 박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매크로 기능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다이얼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에 대한 기하변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아날로그 방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2496960" cy="1654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012000" y="981000"/>
            <a:ext cx="2487600" cy="2737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788000" y="4581360"/>
            <a:ext cx="1800000" cy="1649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659640" y="4076640"/>
            <a:ext cx="19699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7A5E-9608-4C36-80BC-6FA4A3AFA7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논리적 입력장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입력을 논리적으로 취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scanf("%d", &amp;x);  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키보드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?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버튼박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리적 입력장치가 바뀌어도 프로그램은 동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좌표 입력기</a:t>
            </a: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(Locator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절대좌표 또는 상대좌표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마우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키보드의 화살표 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트랙 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연속좌표 입력기</a:t>
            </a: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(Stroke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일련의 연속 좌표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마우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태블릿 커서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문자열 입력기</a:t>
            </a: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(String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문자열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키보드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스칼라 입력기</a:t>
            </a: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(Valuator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회전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크기조절 비율 등 스칼라 값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키보드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마우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다이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메뉴선택 입력기</a:t>
            </a: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(Choice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메뉴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서브메뉴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메뉴옵션 선택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마우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키보드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터치 패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음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물체선택 입력기</a:t>
            </a: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(Pick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를 선택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마우스나 터치 패널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A3A94-5435-4417-B704-44A5CFAEC1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입력 모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메저와 트리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메저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Measure)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응용프로그램에게 전달되는 입력값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트리거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Trigger)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전달하라는 신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Ex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DIR &lt;ENTER&gt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마우스 좌표와 클릭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선택된 메뉴 아이디와 클릭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메저 프로세스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운영체제 초기화시에 실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항상 시스템 버퍼에 메저값이 저장되어 있음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FBC3-7F61-4061-8D94-028224682A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리퀘스트 모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프로그램이 실행 중 메저를 요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트리거가 일어날 때까지 대기상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Request_Locator(Device_ID, &amp;Measure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Device_ID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필드에 의해 물리적 입력장비 제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332000" y="3068640"/>
            <a:ext cx="6113520" cy="89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F258-D04B-4298-B4CF-F4360E5F02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샘플 모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직접모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사용자 트리거가 불필요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sample_Locator(Device_ID, &amp;Measure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이미 필요한 메저가 준비된 상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선택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-&gt;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회전 메뉴 선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cf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회전 메뉴 선택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-&gt;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체선택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리퀘스트 모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58920" y="3573360"/>
            <a:ext cx="4321080" cy="10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088D-ABF4-4174-BE0C-49C59D31A0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이벤트 모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이벤트 모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사용자가 입력 선택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cf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리퀘스트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샘플 모드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프로그램이 주도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이벤트 레코드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이벤트 타입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장치 아이디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메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응용 프로그램은 주기적으로 이벤트 큐를 검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드라이버에게 이벤트 리퀘스트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드라이버가 큐 프런트 레코드를 전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큐가 비어있으면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응용 프로그램은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다른 일을 수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492360" y="2565360"/>
            <a:ext cx="4753080" cy="398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11A1C-F2A3-4744-80E6-F57119E50E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콜백함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응용 프로그램 구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itialize Input Device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{    if (There Is an Event on the Event Queue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witch (Event Type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{    case Keyboard Event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t  Event Record,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Run Keyboard Callb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se Mouse Event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t  Event Record,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Run Mouse Callback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se Do Background Proces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le (User Does Not Request Escape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3BE0-6396-4C86-BA3F-A853EEBEB9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d</cp:lastModifiedBy>
  <dcterms:modified xsi:type="dcterms:W3CDTF">2005-10-17T03:10:57Z</dcterms:modified>
  <cp:revision>354</cp:revision>
  <dc:subject/>
  <dc:title>PowerPoint 프레젠테이션</dc:title>
</cp:coreProperties>
</file>